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CD6A-D871-4386-80EC-240582F29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3624-E4B2-4AAE-BF75-43CCD2EB8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060C-2173-4C49-8597-4F6AE14EB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BE7B-9057-4FEE-B86E-D7C0F0BA9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92DD2-02A0-452F-AEF9-DC594B889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BCB82-7359-4782-85DB-62C6392C7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845E5-3258-428B-93E0-31B66C2B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6FD87-2F69-4F23-AAE8-87D0DC999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05419-AF34-45E3-82EB-646AE60AE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F4078-C2AE-4C8C-911E-D5441F65A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B1809-55FA-4495-BBFC-E91B9851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A56B-91A9-4622-8311-E43BCA862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87CFD-DC0A-4901-8D3B-16A42175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84C28-7235-4E0C-BF88-5F6CA8DC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339D9-133B-41F0-8AA0-44C96F71C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3AC25-99D1-4F46-B4B9-1FED95CAF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5AC3F-A2F8-411B-8740-056E10793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2E98-5D3C-4AAC-9BB9-C747B001F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8777-1124-466B-BCA1-21A76150A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71DA-2326-42AF-AD65-98ACC6CE1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38AD-9991-475A-A61A-096472275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3823-907A-460B-8D6A-51DDEBF9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4B29-ED09-4FF0-BE11-00D10AB5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A24C-013D-46A2-B4C2-6424082A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462f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6EAB6-825A-4D1E-9A31-71BB049C056A}" type="slidenum">
              <a:rPr b="0" lang="ar-S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462f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BDA85-81C7-401C-82A8-D2FFCCBE9058}" type="slidenum">
              <a:rPr b="0" lang="ar-S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462f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534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Arial"/>
              </a:rPr>
              <a:t>المحاضرة السابعة : </a:t>
            </a:r>
            <a:br>
              <a:rPr sz="3600"/>
            </a:br>
            <a:r>
              <a:rPr b="1" lang="ar-SA" sz="3600" spc="-1" strike="noStrike">
                <a:solidFill>
                  <a:srgbClr val="ffffcc"/>
                </a:solidFill>
                <a:latin typeface="Arial"/>
              </a:rPr>
              <a:t>العلاقات الدولية في أوروبا القديمة  الدولة الإغريقية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 algn="r" rtl="1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أهم المدن الاغريقية القديمة: أثينا ، اسبرطة ، بنزا ، بولوني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578880" indent="-578880" algn="r" rtl="1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كل مدنية عبارة عن دولة تسيطر  على جزء من اقليم اليونان يحيط بها سور كبير يحميها من الغزو الأجنبي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578880" indent="-578880" algn="r" rtl="1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معاهدة "نكياس عام ( 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421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 قبل الميلاد )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578880" indent="-578880" algn="r" rtl="1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نصوص المعاهدة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578880" indent="-578880" algn="r" rtl="1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مدة المعاهدة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578880" indent="-578880" algn="r" rtl="1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أسباب نقض المعاهدة عام (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415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 قبل الميلاد )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cc99"/>
                </a:solidFill>
                <a:latin typeface="Arial"/>
              </a:rPr>
              <a:t>مادة العلاقات الدولية (</a:t>
            </a:r>
            <a:r>
              <a:rPr b="0" lang="en-US" sz="2000" spc="-1" strike="noStrike">
                <a:solidFill>
                  <a:srgbClr val="ffcc99"/>
                </a:solidFill>
                <a:latin typeface="Arial"/>
              </a:rPr>
              <a:t>GS 423</a:t>
            </a:r>
            <a:r>
              <a:rPr b="0" lang="ar-SA" sz="2000" spc="-1" strike="noStrike">
                <a:solidFill>
                  <a:srgbClr val="ffcc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462f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534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Arial"/>
              </a:rPr>
              <a:t>تابع المحاضرة السابعة : </a:t>
            </a:r>
            <a:br>
              <a:rPr sz="3600"/>
            </a:br>
            <a:r>
              <a:rPr b="1" lang="ar-SA" sz="3600" spc="-1" strike="noStrike">
                <a:solidFill>
                  <a:srgbClr val="ffffcc"/>
                </a:solidFill>
                <a:latin typeface="Arial"/>
              </a:rPr>
              <a:t>العلاقات الدولية في أوروبا القديمة  الدولة الإغريقية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ابرمت أول معاهدة لنزع السلاح لمنع الحروب والمنازعات وتحقيق السلام الدائم عام ( 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600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 قبل الميلاد)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585000" indent="-58500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الظروف التي دفعت لابرام تلك المعاهدة  في وادي ( يابخستي )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585000" indent="-58500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حققت تلك المعاهدة سلاماً دائماً لمدة مائة عام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585000" indent="-58500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لجأت مدن الصين القديمة للتفاوض، والوساطة ، والتحكيم، لحل أي نزاع يثور بينها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1522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cc99"/>
                </a:solidFill>
                <a:latin typeface="Arial"/>
              </a:rPr>
              <a:t>مادة العلاقات الدولية (</a:t>
            </a:r>
            <a:r>
              <a:rPr b="0" lang="en-US" sz="2000" spc="-1" strike="noStrike">
                <a:solidFill>
                  <a:srgbClr val="ffcc99"/>
                </a:solidFill>
                <a:latin typeface="Arial"/>
              </a:rPr>
              <a:t>GS 423</a:t>
            </a:r>
            <a:r>
              <a:rPr b="0" lang="ar-SA" sz="2000" spc="-1" strike="noStrike">
                <a:solidFill>
                  <a:srgbClr val="ffcc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462f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534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Arial"/>
              </a:rPr>
              <a:t>تابع المحاضرة السابعة : </a:t>
            </a:r>
            <a:br>
              <a:rPr sz="3600"/>
            </a:br>
            <a:r>
              <a:rPr b="1" lang="ar-SA" sz="3600" spc="-1" strike="noStrike">
                <a:solidFill>
                  <a:srgbClr val="ffffcc"/>
                </a:solidFill>
                <a:latin typeface="Arial"/>
              </a:rPr>
              <a:t>العلاقات الدولية في أوروبا القديمة  الدولة الإغريقية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 algn="r" rtl="1">
              <a:lnSpc>
                <a:spcPct val="12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مساهمة حضارة الاغريق في العلاقات الدولية :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901440" indent="-485280" algn="r" rtl="1">
              <a:lnSpc>
                <a:spcPct val="12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Verdana"/>
              </a:rPr>
              <a:t>لعبوا دوراً كبيراً في صقل مفهوم: التحكيم الدولي لحسم المنازعات التي كانت تقوم بين المدن الاغريقية، أو بينها وبين الدول الأخرى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901440" indent="-485280" algn="r" rtl="1">
              <a:lnSpc>
                <a:spcPct val="12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Verdana"/>
              </a:rPr>
              <a:t>عرفوا القواعد التنظيمية لحالات الحرب والمنازعات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901440" indent="-485280" algn="r" rtl="1">
              <a:lnSpc>
                <a:spcPct val="12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eaea"/>
                </a:solidFill>
                <a:latin typeface="Verdana"/>
              </a:rPr>
              <a:t> أحنا فوا قواعد جديدة للعلاقات الدبلوماسية والقضائية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1522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cc99"/>
                </a:solidFill>
                <a:latin typeface="Arial"/>
              </a:rPr>
              <a:t>مادة العلاقات الدولية (</a:t>
            </a:r>
            <a:r>
              <a:rPr b="0" lang="en-US" sz="2000" spc="-1" strike="noStrike">
                <a:solidFill>
                  <a:srgbClr val="ffcc99"/>
                </a:solidFill>
                <a:latin typeface="Arial"/>
              </a:rPr>
              <a:t>GS 423</a:t>
            </a:r>
            <a:r>
              <a:rPr b="0" lang="ar-SA" sz="2000" spc="-1" strike="noStrike">
                <a:solidFill>
                  <a:srgbClr val="ffcc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462f"/>
            </a:gs>
            <a:gs pos="100000">
              <a:srgbClr val="33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534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Arial"/>
              </a:rPr>
              <a:t>تابع المحاضرة السابعة : </a:t>
            </a:r>
            <a:br>
              <a:rPr sz="3600"/>
            </a:br>
            <a:r>
              <a:rPr b="1" lang="ar-SA" sz="3600" spc="-1" strike="noStrike">
                <a:solidFill>
                  <a:srgbClr val="ffffcc"/>
                </a:solidFill>
                <a:latin typeface="Arial"/>
              </a:rPr>
              <a:t>العلاقات الدولية في أوروبا القديمة  الدولة الإغريقية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lnSpc>
                <a:spcPct val="12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فقهاء القانون الدولي يشيرون إلى أن العلاقات التي كانت تتم بين المدن اليونانية هي فقط التي تعتبر علاقات دولية على أساس أنها كانت تتم بين وحدات سياسية مستقلة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r" rtl="1">
              <a:lnSpc>
                <a:spcPct val="12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أما العلاقات مع الدول الأخرى فكانت علاقات تتسم بالهيمنة والاستعلاء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cc99"/>
                </a:solidFill>
                <a:latin typeface="Arial"/>
              </a:rPr>
              <a:t>مادة العلاقات الدولية (</a:t>
            </a:r>
            <a:r>
              <a:rPr b="0" lang="en-US" sz="2000" spc="-1" strike="noStrike">
                <a:solidFill>
                  <a:srgbClr val="ffcc99"/>
                </a:solidFill>
                <a:latin typeface="Arial"/>
              </a:rPr>
              <a:t>GS 423</a:t>
            </a:r>
            <a:r>
              <a:rPr b="0" lang="ar-SA" sz="2000" spc="-1" strike="noStrike">
                <a:solidFill>
                  <a:srgbClr val="ffcc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9T14:02:31Z</dcterms:created>
  <dc:creator>ITC</dc:creator>
  <dc:description/>
  <dc:language>en-US</dc:language>
  <cp:lastModifiedBy>ITC</cp:lastModifiedBy>
  <dcterms:modified xsi:type="dcterms:W3CDTF">2004-09-09T14:52:40Z</dcterms:modified>
  <cp:revision>19</cp:revision>
  <dc:subject/>
  <dc:title>المحاضرة الأولى</dc:title>
</cp:coreProperties>
</file>